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C6F-F54A-4A0D-A0F1-51723042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55D-B1AB-4AE2-AC96-04C111F8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75F-FFF5-4CED-A874-80CBB82F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BB0-0850-41FB-820F-E9D09367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2FD-8357-496E-B2DE-1E5E783E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8A8-3396-404F-98CF-841CA0A8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E1A-6A3F-49CF-ADA5-9978EC6A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A44-72ED-434D-BC87-B9A9F19E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102-FAEC-46FF-9203-CF21FB86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3CC-56C6-440F-9991-6B6F41AE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681-B339-420E-8245-966EAFE5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DD9-193F-42EA-A33C-9DA37C93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22C0-3821-4491-B0DB-C7AFED9FA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xercise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n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imple Analy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3384720"/>
            <a:ext cx="73915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1358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7162560" cy="1009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1625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43800" cy="1320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739152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14400" y="3352680"/>
            <a:ext cx="723888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1447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7620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2489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43800" cy="184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438280" y="4952880"/>
            <a:ext cx="441972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762012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543800" cy="1955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438280" y="3733920"/>
            <a:ext cx="4419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241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5120" y="4038480"/>
            <a:ext cx="4876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48579" r="0" b="11428"/>
          <a:stretch/>
        </p:blipFill>
        <p:spPr>
          <a:xfrm>
            <a:off x="990720" y="2743200"/>
            <a:ext cx="7238880" cy="327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0" r="0" b="44711"/>
          <a:stretch/>
        </p:blipFill>
        <p:spPr>
          <a:xfrm>
            <a:off x="990720" y="533520"/>
            <a:ext cx="723888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53080" y="57150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05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9339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69343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6858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48579" r="0" b="11428"/>
          <a:stretch/>
        </p:blipFill>
        <p:spPr>
          <a:xfrm>
            <a:off x="990720" y="2133720"/>
            <a:ext cx="7238880" cy="207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0" r="0" b="44711"/>
          <a:stretch/>
        </p:blipFill>
        <p:spPr>
          <a:xfrm>
            <a:off x="990720" y="533520"/>
            <a:ext cx="723888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553080" y="396252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066680" y="4495680"/>
            <a:ext cx="7162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3124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38880" cy="1752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934320" y="5334120"/>
            <a:ext cx="14475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3124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38880" cy="76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7238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401760"/>
            <a:ext cx="7543800" cy="325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3619440"/>
            <a:ext cx="7543800" cy="952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50160" y="4095720"/>
            <a:ext cx="150804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7543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2813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258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543800" cy="838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543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7T22:30:56Z</dcterms:modified>
  <cp:revision>18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